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ct" ContentType="image/x-pict"/>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4"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07"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08"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12"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13"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14"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16"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17"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18"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20"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2"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24"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5"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27"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9"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0"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32"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3"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4"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5"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6"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7"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7"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0"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40"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42"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44"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45"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49"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0"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1"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53"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4"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5"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57"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9"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61"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2"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6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6"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7"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2"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4"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69"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0"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1"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2"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3"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4"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77"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7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81"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82"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86"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87"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88"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90"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2"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9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6"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98"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9"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01"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2"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3"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4"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06"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7"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8"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9"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10"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11"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15"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1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19"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20"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2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25"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26"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1"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28"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29"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30"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32"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33"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34"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36"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37"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39"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0"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1"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2"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44"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5"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6"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7"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8"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9"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3"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5"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6"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50"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1"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2"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54"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6"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58"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9"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0"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62"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3"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65"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6"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7"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8"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70"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1"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2"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3"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4"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5"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79"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81"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83"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84"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88"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89"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0"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92"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3"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4"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96"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7"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8"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00"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1"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03"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4"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5"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6"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08"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9"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10"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11"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12"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13"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17"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1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7"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8"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21"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22"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26"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27"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28"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30"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2"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3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6"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38"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9"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41"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2"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3"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4"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46"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7"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8"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9"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50"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51"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54"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56"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58"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59"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63"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64"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65"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67"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6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69"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71"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2"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3"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75"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6"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78"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9"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0"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1"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83"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4"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5"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6"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7"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8"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90"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92"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94"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95"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99"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0"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1"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03"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4"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5"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07"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9"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2"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11"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2"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1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6"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7"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19"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0"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1"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2"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3"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4"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27"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2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31"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32"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36"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37"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38"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6"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40"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2"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4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6"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48"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9"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51"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2"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3"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4"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56"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7"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8"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9"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60"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61"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65"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6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69"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70"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0"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7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75"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76"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78"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79"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0"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82"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3"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4"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86"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7"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89"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0"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1"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2"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94"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5"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6"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7"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8"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9"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03"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0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092240"/>
            <a:ext cx="10464840" cy="3682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Futura Condensed"/>
              </a:rPr>
              <a:t>Click to edit the title text format</a:t>
            </a:r>
            <a:endParaRPr b="0" lang="en-US" sz="11000" spc="-1" strike="noStrike">
              <a:solidFill>
                <a:srgbClr val="ffffff"/>
              </a:solidFill>
              <a:latin typeface="Futura Condensed"/>
            </a:endParaRPr>
          </a:p>
        </p:txBody>
      </p:sp>
      <p:sp>
        <p:nvSpPr>
          <p:cNvPr id="1" name="PlaceHolder 2"/>
          <p:cNvSpPr>
            <a:spLocks noGrp="1"/>
          </p:cNvSpPr>
          <p:nvPr>
            <p:ph type="body"/>
          </p:nvPr>
        </p:nvSpPr>
        <p:spPr>
          <a:xfrm>
            <a:off x="1269720" y="4876560"/>
            <a:ext cx="10464840" cy="2222280"/>
          </a:xfrm>
          <a:prstGeom prst="rect">
            <a:avLst/>
          </a:prstGeom>
          <a:noFill/>
          <a:ln w="0">
            <a:noFill/>
          </a:ln>
        </p:spPr>
        <p:txBody>
          <a:bodyPr lIns="50760" rIns="50760" tIns="50760" bIns="50760" anchor="t">
            <a:normAutofit fontScale="4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3098880"/>
            <a:ext cx="10464840" cy="35560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Futura Condensed"/>
              </a:rPr>
              <a:t>Click to edit the title text format</a:t>
            </a:r>
            <a:endParaRPr b="0" lang="en-US" sz="11000" spc="-1" strike="noStrike">
              <a:solidFill>
                <a:srgbClr val="ffffff"/>
              </a:solidFill>
              <a:latin typeface="Futura Condense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6908400"/>
            <a:ext cx="10464840" cy="1917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Futura Condensed"/>
              </a:rPr>
              <a:t>Click to edit the title text format</a:t>
            </a:r>
            <a:endParaRPr b="0" lang="en-US" sz="11000" spc="-1" strike="noStrike">
              <a:solidFill>
                <a:srgbClr val="ffffff"/>
              </a:solidFill>
              <a:latin typeface="Futura Condense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marL="433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bf2"/>
                </a:solidFill>
                <a:latin typeface="Futura Condensed"/>
              </a:rPr>
              <a:t>Click to edit the title text format</a:t>
            </a:r>
            <a:endParaRPr b="0" lang="en-US" sz="8000" spc="-1" strike="noStrike">
              <a:solidFill>
                <a:srgbClr val="fffbf2"/>
              </a:solidFill>
              <a:latin typeface="Futura Condensed"/>
            </a:endParaRPr>
          </a:p>
        </p:txBody>
      </p:sp>
      <p:sp>
        <p:nvSpPr>
          <p:cNvPr id="413" name="PlaceHolder 2"/>
          <p:cNvSpPr>
            <a:spLocks noGrp="1"/>
          </p:cNvSpPr>
          <p:nvPr>
            <p:ph type="body"/>
          </p:nvPr>
        </p:nvSpPr>
        <p:spPr>
          <a:xfrm>
            <a:off x="635040" y="4787640"/>
            <a:ext cx="5867280" cy="2933640"/>
          </a:xfrm>
          <a:prstGeom prst="rect">
            <a:avLst/>
          </a:prstGeom>
          <a:noFill/>
          <a:ln w="0">
            <a:noFill/>
          </a:ln>
        </p:spPr>
        <p:txBody>
          <a:bodyPr lIns="50760" rIns="50760" tIns="50760" bIns="50760" anchor="t">
            <a:normAutofit fontScale="5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39" name="PlaceHolder 2"/>
          <p:cNvSpPr>
            <a:spLocks noGrp="1"/>
          </p:cNvSpPr>
          <p:nvPr>
            <p:ph type="body"/>
          </p:nvPr>
        </p:nvSpPr>
        <p:spPr>
          <a:xfrm>
            <a:off x="12600" y="2781360"/>
            <a:ext cx="12979440" cy="6222960"/>
          </a:xfrm>
          <a:prstGeom prst="rect">
            <a:avLst/>
          </a:prstGeom>
          <a:noFill/>
          <a:ln w="0">
            <a:noFill/>
          </a:ln>
        </p:spPr>
        <p:txBody>
          <a:bodyPr lIns="50760" rIns="50760" tIns="50760" bIns="50760" anchor="ctr">
            <a:normAutofit fontScale="87000"/>
          </a:bodyPr>
          <a:p>
            <a:pPr marL="1335240" indent="-13352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89756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50524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310176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77" name="PlaceHolder 2"/>
          <p:cNvSpPr>
            <a:spLocks noGrp="1"/>
          </p:cNvSpPr>
          <p:nvPr>
            <p:ph type="body"/>
          </p:nvPr>
        </p:nvSpPr>
        <p:spPr>
          <a:xfrm>
            <a:off x="12600" y="2781360"/>
            <a:ext cx="12979440" cy="6222960"/>
          </a:xfrm>
          <a:prstGeom prst="rect">
            <a:avLst/>
          </a:prstGeom>
          <a:noFill/>
          <a:ln w="0">
            <a:noFill/>
          </a:ln>
        </p:spPr>
        <p:txBody>
          <a:bodyPr lIns="50760" rIns="50760" tIns="50760" bIns="50760" anchor="t">
            <a:normAutofit fontScale="87000"/>
          </a:bodyPr>
          <a:p>
            <a:pPr marL="1335240" indent="-13352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89756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50524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310176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115" name="PlaceHolder 2"/>
          <p:cNvSpPr>
            <a:spLocks noGrp="1"/>
          </p:cNvSpPr>
          <p:nvPr>
            <p:ph type="body"/>
          </p:nvPr>
        </p:nvSpPr>
        <p:spPr>
          <a:xfrm>
            <a:off x="12600" y="2781360"/>
            <a:ext cx="6832800" cy="6222960"/>
          </a:xfrm>
          <a:prstGeom prst="rect">
            <a:avLst/>
          </a:prstGeom>
          <a:noFill/>
          <a:ln w="0">
            <a:noFill/>
          </a:ln>
        </p:spPr>
        <p:txBody>
          <a:bodyPr lIns="50760" rIns="50760" tIns="50760" bIns="50760" anchor="ctr">
            <a:normAutofit fontScale="71000"/>
          </a:bodyPr>
          <a:p>
            <a:pPr marL="1089720" indent="-10897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54836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0444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253116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body"/>
          </p:nvPr>
        </p:nvSpPr>
        <p:spPr>
          <a:xfrm>
            <a:off x="12600" y="1091880"/>
            <a:ext cx="12979440" cy="7569000"/>
          </a:xfrm>
          <a:prstGeom prst="rect">
            <a:avLst/>
          </a:prstGeom>
          <a:noFill/>
          <a:ln w="0">
            <a:noFill/>
          </a:ln>
        </p:spPr>
        <p:txBody>
          <a:bodyPr lIns="50760" rIns="50760" tIns="50760" bIns="50760" anchor="ctr">
            <a:normAutofit/>
          </a:bodyPr>
          <a:p>
            <a:pPr marL="1535040" indent="-15350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21812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8796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35654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42512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42512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42512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263" name="PlaceHolder 2"/>
          <p:cNvSpPr>
            <a:spLocks noGrp="1"/>
          </p:cNvSpPr>
          <p:nvPr>
            <p:ph type="body"/>
          </p:nvPr>
        </p:nvSpPr>
        <p:spPr>
          <a:xfrm>
            <a:off x="6946920" y="2781360"/>
            <a:ext cx="5308560" cy="6222960"/>
          </a:xfrm>
          <a:prstGeom prst="rect">
            <a:avLst/>
          </a:prstGeom>
          <a:noFill/>
          <a:ln w="0">
            <a:noFill/>
          </a:ln>
        </p:spPr>
        <p:txBody>
          <a:bodyPr lIns="50760" rIns="50760" tIns="50760" bIns="50760" anchor="ctr">
            <a:normAutofit fontScale="61000"/>
          </a:bodyPr>
          <a:p>
            <a:pPr marL="95184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22292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150156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178056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206748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206748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206748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301" name="PlaceHolder 2"/>
          <p:cNvSpPr>
            <a:spLocks noGrp="1"/>
          </p:cNvSpPr>
          <p:nvPr>
            <p:ph type="body"/>
          </p:nvPr>
        </p:nvSpPr>
        <p:spPr>
          <a:xfrm>
            <a:off x="12600" y="2781360"/>
            <a:ext cx="6832800" cy="6222960"/>
          </a:xfrm>
          <a:prstGeom prst="rect">
            <a:avLst/>
          </a:prstGeom>
          <a:noFill/>
          <a:ln w="0">
            <a:noFill/>
          </a:ln>
        </p:spPr>
        <p:txBody>
          <a:bodyPr lIns="50760" rIns="50760" tIns="50760" bIns="50760" anchor="ctr">
            <a:normAutofit fontScale="71000"/>
          </a:bodyPr>
          <a:p>
            <a:pPr marL="1089720" indent="-10897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54836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0444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253116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_A-ZVCjfWf8" TargetMode="External"/><Relationship Id="rId3" Type="http://schemas.openxmlformats.org/officeDocument/2006/relationships/hyperlink" Target="http://www.youtube.com/watch?v=_A-ZVCjfWf8" TargetMode="External"/><Relationship Id="rId4" Type="http://schemas.openxmlformats.org/officeDocument/2006/relationships/hyperlink" Target="http://www.youtube.com/watch?v=_A-ZVCjfWf8" TargetMode="External"/><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hyperlink" Target="http://www.youtube.com/watch?v=_A-ZVCjfWf8" TargetMode="External"/><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1092240"/>
            <a:ext cx="10464840" cy="368280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Futura Condensed"/>
              </a:rPr>
              <a:t>Digital Native Learning Framework:</a:t>
            </a:r>
            <a:endParaRPr b="0" lang="en-US" sz="11000" spc="-1" strike="noStrike">
              <a:solidFill>
                <a:srgbClr val="ffffff"/>
              </a:solidFill>
              <a:latin typeface="Futura Condensed"/>
            </a:endParaRPr>
          </a:p>
        </p:txBody>
      </p:sp>
      <p:sp>
        <p:nvSpPr>
          <p:cNvPr id="451" name="PlaceHolder 2"/>
          <p:cNvSpPr>
            <a:spLocks noGrp="1"/>
          </p:cNvSpPr>
          <p:nvPr>
            <p:ph/>
          </p:nvPr>
        </p:nvSpPr>
        <p:spPr>
          <a:xfrm>
            <a:off x="1269720" y="4876920"/>
            <a:ext cx="10464840" cy="45720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e 3-Rs Become the 4-Es</a:t>
            </a:r>
            <a:endParaRPr b="0" lang="en-US" sz="46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cfc"/>
                </a:solidFill>
                <a:latin typeface="Futura Condensed"/>
              </a:rPr>
              <a:t>A Presentation for</a:t>
            </a:r>
            <a:endParaRPr b="0" lang="en-US" sz="28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cfc"/>
                </a:solidFill>
                <a:latin typeface="Futura Condensed"/>
              </a:rPr>
              <a:t>ESC Region 20 Tech Fiesta</a:t>
            </a:r>
            <a:endParaRPr b="0" lang="en-US" sz="28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cfc"/>
                </a:solidFill>
                <a:latin typeface="Futura Condensed"/>
              </a:rPr>
              <a:t>April 15-16, 2010</a:t>
            </a:r>
            <a:endParaRPr b="0" lang="en-US" sz="28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Condensed"/>
              </a:rPr>
              <a:t>Allen D. Bordelon</a:t>
            </a:r>
            <a:endParaRPr b="0" lang="en-US" sz="24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Condensed"/>
              </a:rPr>
              <a:t>Director of Technology</a:t>
            </a:r>
            <a:endParaRPr b="0" lang="en-US" sz="24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Condensed"/>
              </a:rPr>
              <a:t>La Vernia ISD</a:t>
            </a:r>
            <a:endParaRPr b="0" lang="en-US" sz="24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4141"/>
              </a:solidFill>
              <a:latin typeface="Futura Condense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The 3-Rs Become the 4-Es</a:t>
            </a:r>
            <a:endParaRPr b="0" lang="en-US" sz="6200" spc="-1" strike="noStrike">
              <a:solidFill>
                <a:srgbClr val="ffffff"/>
              </a:solidFill>
              <a:latin typeface="Futura Condensed"/>
            </a:endParaRPr>
          </a:p>
        </p:txBody>
      </p:sp>
      <p:sp>
        <p:nvSpPr>
          <p:cNvPr id="470"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According to Sara Armstrong and David Warlick (2004), “Whether we like it or not, with the information age comes a whole new set of basic skills... the traditional 3-Rs, naturally and out of necessity, evolve into 4-Es to define literacy in an increasingly, and soon to be exclusively, digital and networked world” </a:t>
            </a:r>
            <a:endParaRPr b="0" lang="en-US" sz="4600" spc="-1" strike="noStrike">
              <a:solidFill>
                <a:srgbClr val="2d4141"/>
              </a:solidFill>
              <a:latin typeface="Futura Condensed"/>
            </a:endParaRPr>
          </a:p>
        </p:txBody>
      </p:sp>
      <p:sp>
        <p:nvSpPr>
          <p:cNvPr id="471" name=""/>
          <p:cNvSpPr/>
          <p:nvPr/>
        </p:nvSpPr>
        <p:spPr>
          <a:xfrm>
            <a:off x="-734040" y="9254160"/>
            <a:ext cx="144572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4141"/>
                </a:solidFill>
                <a:latin typeface="Futura Condensed"/>
                <a:ea typeface="Futura Condensed"/>
              </a:rPr>
              <a:t>Source: Armstrong, Sara &amp; Warlick, David (2004). The NEW Literacy: The 3Rs Evolve into the 4Es. Technology &amp; Learning, 25(2), p. 20-28.</a:t>
            </a:r>
            <a:endParaRPr b="0" lang="en-US" sz="1800" spc="-1" strike="noStrike">
              <a:solidFill>
                <a:srgbClr val="2d4141"/>
              </a:solidFill>
              <a:latin typeface="Futura Condense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ea typeface="Lucida Grande"/>
              </a:rPr>
              <a:t>Reading → Exposing Knowledge</a:t>
            </a:r>
            <a:endParaRPr b="0" lang="en-US" sz="6200" spc="-1" strike="noStrike">
              <a:solidFill>
                <a:srgbClr val="ffffff"/>
              </a:solidFill>
              <a:latin typeface="Futura Condensed"/>
            </a:endParaRPr>
          </a:p>
        </p:txBody>
      </p:sp>
      <p:sp>
        <p:nvSpPr>
          <p:cNvPr id="473"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0000"/>
          </a:bodyPr>
          <a:p>
            <a:pPr marL="1227960" indent="-122796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Basic skills for today's students include the following:</a:t>
            </a:r>
            <a:endParaRPr b="0" lang="en-US" sz="4600" spc="-1" strike="noStrike">
              <a:solidFill>
                <a:srgbClr val="2d4141"/>
              </a:solidFill>
              <a:latin typeface="Futura Condensed"/>
            </a:endParaRPr>
          </a:p>
          <a:p>
            <a:pPr lvl="1" marL="1785600" indent="-75924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Finding Information: Using search tools and employing research strategies.</a:t>
            </a:r>
            <a:endParaRPr b="0" lang="en-US" sz="3400" spc="-1" strike="noStrike">
              <a:solidFill>
                <a:srgbClr val="2d4141"/>
              </a:solidFill>
              <a:latin typeface="Futura Condensed"/>
            </a:endParaRPr>
          </a:p>
          <a:p>
            <a:pPr lvl="1" marL="1785600" indent="-75924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Decoding Information: Reading deeply for meaning in multimedia content.</a:t>
            </a:r>
            <a:endParaRPr b="0" lang="en-US" sz="3400" spc="-1" strike="noStrike">
              <a:solidFill>
                <a:srgbClr val="2d4141"/>
              </a:solidFill>
              <a:latin typeface="Futura Condensed"/>
            </a:endParaRPr>
          </a:p>
          <a:p>
            <a:pPr lvl="1" marL="1785600" indent="-75924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Evaluating Information: Evaluating information encountered and identifying it in terms of their goals.</a:t>
            </a:r>
            <a:endParaRPr b="0" lang="en-US" sz="3400" spc="-1" strike="noStrike">
              <a:solidFill>
                <a:srgbClr val="2d4141"/>
              </a:solidFill>
              <a:latin typeface="Futura Condensed"/>
            </a:endParaRPr>
          </a:p>
          <a:p>
            <a:pPr lvl="1" marL="1785600" indent="-75924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Organizing Information into Personal Digital Libraries: When students create and organize information that is relevant to their ongoing interests and goals, then they can handily find answers to their questions.</a:t>
            </a:r>
            <a:endParaRPr b="0" lang="en-US" sz="3400" spc="-1" strike="noStrike">
              <a:solidFill>
                <a:srgbClr val="2d4141"/>
              </a:solidFill>
              <a:latin typeface="Futura Condensed"/>
            </a:endParaRPr>
          </a:p>
        </p:txBody>
      </p:sp>
      <p:sp>
        <p:nvSpPr>
          <p:cNvPr id="474" name=""/>
          <p:cNvSpPr/>
          <p:nvPr/>
        </p:nvSpPr>
        <p:spPr>
          <a:xfrm>
            <a:off x="-734040" y="9254160"/>
            <a:ext cx="144572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4141"/>
                </a:solidFill>
                <a:latin typeface="Futura Condensed"/>
                <a:ea typeface="Futura Condensed"/>
              </a:rPr>
              <a:t>Source: Armstrong, Sara &amp; Warlick, David (2004). The NEW Literacy: The 3Rs Evolve into the 4Es. Technology &amp; Learning, 25(2), p. 20-28.</a:t>
            </a:r>
            <a:endParaRPr b="0" lang="en-US" sz="1800" spc="-1" strike="noStrike">
              <a:solidFill>
                <a:srgbClr val="2d4141"/>
              </a:solidFill>
              <a:latin typeface="Futura Condense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ea typeface="Lucida Grande"/>
              </a:rPr>
              <a:t>Arithmetic → Employing Information</a:t>
            </a:r>
            <a:endParaRPr b="0" lang="en-US" sz="6200" spc="-1" strike="noStrike">
              <a:solidFill>
                <a:srgbClr val="ffffff"/>
              </a:solidFill>
              <a:latin typeface="Futura Condensed"/>
            </a:endParaRPr>
          </a:p>
        </p:txBody>
      </p:sp>
      <p:sp>
        <p:nvSpPr>
          <p:cNvPr id="476"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71000"/>
          </a:bodyPr>
          <a:p>
            <a:pPr marL="1089720" indent="-108972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Learning to process any and all information requires:</a:t>
            </a:r>
            <a:endParaRPr b="0" lang="en-US" sz="4600" spc="-1" strike="noStrike">
              <a:solidFill>
                <a:srgbClr val="2d4141"/>
              </a:solidFill>
              <a:latin typeface="Futura Condensed"/>
            </a:endParaRPr>
          </a:p>
          <a:p>
            <a:pPr lvl="1" marL="1584720" indent="-67392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Basic Mathematical Skills: Students must understand basic computational skills as well as the fundamental laws of numbers, and how to use these concepts to answer questions, solve problems, and accomplish goals.</a:t>
            </a:r>
            <a:endParaRPr b="0" lang="en-US" sz="3400" spc="-1" strike="noStrike">
              <a:solidFill>
                <a:srgbClr val="2d4141"/>
              </a:solidFill>
              <a:latin typeface="Futura Condensed"/>
            </a:endParaRPr>
          </a:p>
          <a:p>
            <a:pPr lvl="1" marL="1584720" indent="-67392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Computer-aided Processing of Numbers: Students must learn to process large quantities of digital data using spreadsheets and other data processing tools.</a:t>
            </a:r>
            <a:endParaRPr b="0" lang="en-US" sz="3400" spc="-1" strike="noStrike">
              <a:solidFill>
                <a:srgbClr val="2d4141"/>
              </a:solidFill>
              <a:latin typeface="Futura Condensed"/>
            </a:endParaRPr>
          </a:p>
          <a:p>
            <a:pPr lvl="1" marL="1584720" indent="-67392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Processing Media: All formats of information can be moved into powerful graphic, sound, and video processing software and altered to communicate in a more precise and compelling way, adding value to information.</a:t>
            </a:r>
            <a:endParaRPr b="0" lang="en-US" sz="3400" spc="-1" strike="noStrike">
              <a:solidFill>
                <a:srgbClr val="2d4141"/>
              </a:solidFill>
              <a:latin typeface="Futura Condensed"/>
            </a:endParaRPr>
          </a:p>
          <a:p>
            <a:pPr lvl="1" marL="1584720" indent="-67392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Organizing Information into Personal Digital Libraries: When students create and organize information that is relevant to their ongoing interests and goals, then they can handily find answers to their questions.</a:t>
            </a:r>
            <a:endParaRPr b="0" lang="en-US" sz="3400" spc="-1" strike="noStrike">
              <a:solidFill>
                <a:srgbClr val="2d4141"/>
              </a:solidFill>
              <a:latin typeface="Futura Condensed"/>
            </a:endParaRPr>
          </a:p>
        </p:txBody>
      </p:sp>
      <p:sp>
        <p:nvSpPr>
          <p:cNvPr id="477" name=""/>
          <p:cNvSpPr/>
          <p:nvPr/>
        </p:nvSpPr>
        <p:spPr>
          <a:xfrm>
            <a:off x="-734040" y="9254160"/>
            <a:ext cx="144572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4141"/>
                </a:solidFill>
                <a:latin typeface="Futura Condensed"/>
                <a:ea typeface="Futura Condensed"/>
              </a:rPr>
              <a:t>Source: Armstrong, Sara &amp; Warlick, David (2004). The NEW Literacy: The 3Rs Evolve into the 4Es. Technology &amp; Learning, 25(2), p. 20-28.</a:t>
            </a:r>
            <a:endParaRPr b="0" lang="en-US" sz="1800" spc="-1" strike="noStrike">
              <a:solidFill>
                <a:srgbClr val="2d4141"/>
              </a:solidFill>
              <a:latin typeface="Futura Condense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Futura Condensed"/>
                <a:ea typeface="Lucida Grande"/>
              </a:rPr>
              <a:t>Writing → Expressing Ideas Compellingly</a:t>
            </a:r>
            <a:endParaRPr b="0" lang="en-US" sz="5900" spc="-1" strike="noStrike">
              <a:solidFill>
                <a:srgbClr val="ffffff"/>
              </a:solidFill>
              <a:latin typeface="Futura Condensed"/>
            </a:endParaRPr>
          </a:p>
        </p:txBody>
      </p:sp>
      <p:sp>
        <p:nvSpPr>
          <p:cNvPr id="47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7000"/>
          </a:bodyPr>
          <a:p>
            <a:pPr marL="1335240" indent="-133524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tudents must master a range of practical and technical skills involved in expressing ideas effectively and compellingly:</a:t>
            </a:r>
            <a:endParaRPr b="0" lang="en-US" sz="4600" spc="-1" strike="noStrike">
              <a:solidFill>
                <a:srgbClr val="2d4141"/>
              </a:solidFill>
              <a:latin typeface="Futura Condensed"/>
            </a:endParaRPr>
          </a:p>
          <a:p>
            <a:pPr lvl="1" marL="1941840" indent="-82584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Writing Effectively: Students must learn not only the mechanics of writing, but how to use text to communicate knowledge and ideas more efficiently than ever.</a:t>
            </a:r>
            <a:endParaRPr b="0" lang="en-US" sz="3400" spc="-1" strike="noStrike">
              <a:solidFill>
                <a:srgbClr val="2d4141"/>
              </a:solidFill>
              <a:latin typeface="Futura Condensed"/>
            </a:endParaRPr>
          </a:p>
          <a:p>
            <a:pPr lvl="1" marL="1941840" indent="-82584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Communicating with Multimedia: Students must also learn to match their message with the medium that best communicates it, and then use the appropriate tools to create and or modify it in order to attract the attention of an audience.</a:t>
            </a:r>
            <a:endParaRPr b="0" lang="en-US" sz="3400" spc="-1" strike="noStrike">
              <a:solidFill>
                <a:srgbClr val="2d4141"/>
              </a:solidFill>
              <a:latin typeface="Futura Condensed"/>
            </a:endParaRPr>
          </a:p>
        </p:txBody>
      </p:sp>
      <p:sp>
        <p:nvSpPr>
          <p:cNvPr id="480" name=""/>
          <p:cNvSpPr/>
          <p:nvPr/>
        </p:nvSpPr>
        <p:spPr>
          <a:xfrm>
            <a:off x="-734040" y="9254160"/>
            <a:ext cx="144572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4141"/>
                </a:solidFill>
                <a:latin typeface="Futura Condensed"/>
                <a:ea typeface="Futura Condensed"/>
              </a:rPr>
              <a:t>Source: Armstrong, Sara &amp; Warlick, David (2004). The NEW Literacy: The 3Rs Evolve into the 4Es. Technology &amp; Learning, 25(2), p. 20-28.</a:t>
            </a:r>
            <a:endParaRPr b="0" lang="en-US" sz="1800" spc="-1" strike="noStrike">
              <a:solidFill>
                <a:srgbClr val="2d4141"/>
              </a:solidFill>
              <a:latin typeface="Futura Condense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The 4th E: Ethics</a:t>
            </a:r>
            <a:br>
              <a:rPr sz="6200"/>
            </a:br>
            <a:r>
              <a:rPr b="0" lang="en-US" sz="5200" spc="-1" strike="noStrike">
                <a:solidFill>
                  <a:srgbClr val="ffffff"/>
                </a:solidFill>
                <a:latin typeface="Futura Condensed"/>
              </a:rPr>
              <a:t>Right and Wrong on the Information Highway</a:t>
            </a:r>
            <a:br>
              <a:rPr sz="6200"/>
            </a:br>
            <a:endParaRPr b="0" lang="en-US" sz="5200" spc="-1" strike="noStrike">
              <a:solidFill>
                <a:srgbClr val="ffffff"/>
              </a:solidFill>
              <a:latin typeface="Futura Condense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82"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78000"/>
          </a:bodyPr>
          <a:p>
            <a:pPr marL="1236600" indent="-119700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We must teach our students to ethically use information and to respect information property and infrastructure:</a:t>
            </a:r>
            <a:endParaRPr b="0" lang="en-US" sz="4600" spc="-1" strike="noStrike">
              <a:solidFill>
                <a:srgbClr val="2d4141"/>
              </a:solidFill>
              <a:latin typeface="Futura Condensed"/>
            </a:endParaRPr>
          </a:p>
          <a:p>
            <a:pPr lvl="1" marL="1740960" indent="-74016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Information Reliability: Students must learn to assess the accuracy of the information that they access and use, and to provide evidence of the accuracy and reliability of the information products they assemble.</a:t>
            </a:r>
            <a:endParaRPr b="0" lang="en-US" sz="3400" spc="-1" strike="noStrike">
              <a:solidFill>
                <a:srgbClr val="2d4141"/>
              </a:solidFill>
              <a:latin typeface="Futura Condensed"/>
            </a:endParaRPr>
          </a:p>
          <a:p>
            <a:pPr lvl="1" marL="1740960" indent="-74016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Information Property: It is important that students gain an appreciation of information as property that needs to be respected.</a:t>
            </a:r>
            <a:endParaRPr b="0" lang="en-US" sz="3400" spc="-1" strike="noStrike">
              <a:solidFill>
                <a:srgbClr val="2d4141"/>
              </a:solidFill>
              <a:latin typeface="Futura Condensed"/>
            </a:endParaRPr>
          </a:p>
          <a:p>
            <a:pPr lvl="1" marL="1740960" indent="-740160">
              <a:lnSpc>
                <a:spcPct val="100000"/>
              </a:lnSpc>
              <a:spcBef>
                <a:spcPts val="2801"/>
              </a:spcBef>
              <a:buClr>
                <a:srgbClr val="2d4141"/>
              </a:buClr>
              <a:buSzPct val="155000"/>
              <a:buFont typeface="Futura Condensed"/>
              <a:buAutoNum type="arabicPeriod"/>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d4141"/>
                </a:solidFill>
                <a:latin typeface="Futura Condensed"/>
              </a:rPr>
              <a:t>Information Infrastructure: Students must realize the importance of our information infrastructure and how critical it is to our success in the future.</a:t>
            </a:r>
            <a:endParaRPr b="0" lang="en-US" sz="3400" spc="-1" strike="noStrike">
              <a:solidFill>
                <a:srgbClr val="2d4141"/>
              </a:solidFill>
              <a:latin typeface="Futura Condensed"/>
            </a:endParaRPr>
          </a:p>
          <a:p>
            <a:pPr marL="1236600" indent="0">
              <a:lnSpc>
                <a:spcPct val="100000"/>
              </a:lnSpc>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2d4141"/>
              </a:solidFill>
              <a:latin typeface="Futura Condensed"/>
            </a:endParaRPr>
          </a:p>
        </p:txBody>
      </p:sp>
      <p:sp>
        <p:nvSpPr>
          <p:cNvPr id="483" name=""/>
          <p:cNvSpPr/>
          <p:nvPr/>
        </p:nvSpPr>
        <p:spPr>
          <a:xfrm>
            <a:off x="-734040" y="9254160"/>
            <a:ext cx="1445724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4141"/>
                </a:solidFill>
                <a:latin typeface="Futura Condensed"/>
                <a:ea typeface="Futura Condensed"/>
              </a:rPr>
              <a:t>Source: Armstrong, Sara &amp; Warlick, David (2004). The NEW Literacy: The 3Rs Evolve into the 4Es. Technology &amp; Learning, 25(2), p. 20-28.</a:t>
            </a:r>
            <a:endParaRPr b="0" lang="en-US" sz="1800" spc="-1" strike="noStrike">
              <a:solidFill>
                <a:srgbClr val="2d4141"/>
              </a:solidFill>
              <a:latin typeface="Futura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Transformation through Implementation</a:t>
            </a:r>
            <a:endParaRPr b="0" lang="en-US" sz="6200" spc="-1" strike="noStrike">
              <a:solidFill>
                <a:srgbClr val="ffffff"/>
              </a:solidFill>
              <a:latin typeface="Futura Condensed"/>
            </a:endParaRPr>
          </a:p>
        </p:txBody>
      </p:sp>
      <p:sp>
        <p:nvSpPr>
          <p:cNvPr id="48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0000"/>
          </a:bodyPr>
          <a:p>
            <a:pPr marL="1268640" indent="-1227960">
              <a:lnSpc>
                <a:spcPct val="100000"/>
              </a:lnSpc>
              <a:spcBef>
                <a:spcPts val="2801"/>
              </a:spcBef>
              <a:buSzPct val="1594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141"/>
                </a:solidFill>
                <a:latin typeface="Futura Condensed"/>
              </a:rPr>
              <a:t>When implementing our new vision of Digital Native learning, it is no longer sufficient to merely integrate technology in the classroom; we must </a:t>
            </a:r>
            <a:r>
              <a:rPr b="0" lang="en-US" sz="4000" spc="-1" strike="noStrike" u="sng">
                <a:solidFill>
                  <a:srgbClr val="2d4141"/>
                </a:solidFill>
                <a:uFillTx/>
                <a:latin typeface="Futura Condensed"/>
              </a:rPr>
              <a:t>implement</a:t>
            </a:r>
            <a:r>
              <a:rPr b="0" lang="en-US" sz="4000" spc="-1" strike="noStrike">
                <a:solidFill>
                  <a:srgbClr val="2d4141"/>
                </a:solidFill>
                <a:latin typeface="Futura Condensed"/>
              </a:rPr>
              <a:t> all technologies by embedding them throughout the curriculum and the school to </a:t>
            </a:r>
            <a:r>
              <a:rPr b="0" lang="en-US" sz="4000" spc="-1" strike="noStrike" u="sng">
                <a:solidFill>
                  <a:srgbClr val="2d4141"/>
                </a:solidFill>
                <a:uFillTx/>
                <a:latin typeface="Futura Condensed"/>
              </a:rPr>
              <a:t>transform the learning process</a:t>
            </a:r>
            <a:r>
              <a:rPr b="0" lang="en-US" sz="4000" spc="-1" strike="noStrike">
                <a:solidFill>
                  <a:srgbClr val="2d4141"/>
                </a:solidFill>
                <a:latin typeface="Futura Condensed"/>
              </a:rPr>
              <a:t>. </a:t>
            </a:r>
            <a:endParaRPr b="0" lang="en-US" sz="4000" spc="-1" strike="noStrike">
              <a:solidFill>
                <a:srgbClr val="2d4141"/>
              </a:solidFill>
              <a:latin typeface="Futura Condensed"/>
            </a:endParaRPr>
          </a:p>
          <a:p>
            <a:pPr marL="1268640" indent="-1227960">
              <a:lnSpc>
                <a:spcPct val="100000"/>
              </a:lnSpc>
              <a:spcBef>
                <a:spcPts val="2801"/>
              </a:spcBef>
              <a:buSzPct val="1594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141"/>
                </a:solidFill>
                <a:latin typeface="Futura Condensed"/>
              </a:rPr>
              <a:t>Schacter and Fagnano (1999) state that “Applied effectively, technology implementation not only increases student learning, understanding, and achievement but also augments motivation to learn, encourages collaborative learning, and supports the development of critical thinking and problem-solving skills.”</a:t>
            </a:r>
            <a:endParaRPr b="0" lang="en-US" sz="4000" spc="-1" strike="noStrike">
              <a:solidFill>
                <a:srgbClr val="2d4141"/>
              </a:solidFill>
              <a:latin typeface="Futura Condense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The Power of Cooperative Learning</a:t>
            </a:r>
            <a:endParaRPr b="0" lang="en-US" sz="6200" spc="-1" strike="noStrike">
              <a:solidFill>
                <a:srgbClr val="ffffff"/>
              </a:solidFill>
              <a:latin typeface="Futura Condensed"/>
            </a:endParaRPr>
          </a:p>
        </p:txBody>
      </p:sp>
      <p:sp>
        <p:nvSpPr>
          <p:cNvPr id="48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5000"/>
          </a:bodyPr>
          <a:p>
            <a:pPr marL="1347840" indent="-130464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Our Digital Native students are always connected to each other and to information via technology. Interaction is a way of life for these students, yet we still emphasize individual achievement. Cooperative learning is essential at </a:t>
            </a:r>
            <a:r>
              <a:rPr b="0" lang="en-US" sz="4600" spc="-1" strike="noStrike" u="sng">
                <a:solidFill>
                  <a:srgbClr val="2d4141"/>
                </a:solidFill>
                <a:uFillTx/>
                <a:latin typeface="Futura Condensed"/>
              </a:rPr>
              <a:t>all</a:t>
            </a:r>
            <a:r>
              <a:rPr b="0" lang="en-US" sz="4600" spc="-1" strike="noStrike">
                <a:solidFill>
                  <a:srgbClr val="2d4141"/>
                </a:solidFill>
                <a:latin typeface="Futura Condensed"/>
              </a:rPr>
              <a:t> levels. </a:t>
            </a:r>
            <a:endParaRPr b="0" lang="en-US" sz="4600" spc="-1" strike="noStrike">
              <a:solidFill>
                <a:srgbClr val="2d4141"/>
              </a:solidFill>
              <a:latin typeface="Futura Condensed"/>
            </a:endParaRPr>
          </a:p>
          <a:p>
            <a:pPr marL="1347840" indent="-130464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Johnson, Johnson and Stanne (2000) note that “When students work in cooperative groups, they make sense of, or construct meaning for, new knowledge by interacting with others.”</a:t>
            </a:r>
            <a:endParaRPr b="0" lang="en-US" sz="4600" spc="-1" strike="noStrike">
              <a:solidFill>
                <a:srgbClr val="2d4141"/>
              </a:solidFill>
              <a:latin typeface="Futura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Web 2.0 Tools Foster Creativity</a:t>
            </a:r>
            <a:endParaRPr b="0" lang="en-US" sz="6200" spc="-1" strike="noStrike">
              <a:solidFill>
                <a:srgbClr val="ffffff"/>
              </a:solidFill>
              <a:latin typeface="Futura Condensed"/>
            </a:endParaRPr>
          </a:p>
        </p:txBody>
      </p:sp>
      <p:sp>
        <p:nvSpPr>
          <p:cNvPr id="48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3000"/>
          </a:bodyPr>
          <a:p>
            <a:pPr marL="1316160" indent="-127404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Digital Natives rely on Web 2.0 Tools (wikis, blogs, social networking, Google Docs) to collaborate, remix content, and synthesize knowledge; yet we currently block many key sites.</a:t>
            </a:r>
            <a:endParaRPr b="0" lang="en-US" sz="4600" spc="-1" strike="noStrike">
              <a:solidFill>
                <a:srgbClr val="2d4141"/>
              </a:solidFill>
              <a:latin typeface="Futura Condensed"/>
            </a:endParaRPr>
          </a:p>
          <a:p>
            <a:pPr marL="1316160" indent="-127404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Gwen Solomon and Lynne Schrum (2007) explain that “The old way of doing things is presentation-driven; information is delivered and tested.”, and emphasize that “The  new way is collaborative, with information shared, discussed, refined with others, and </a:t>
            </a:r>
            <a:r>
              <a:rPr b="0" lang="en-US" sz="4600" spc="-1" strike="noStrike" u="sng">
                <a:solidFill>
                  <a:srgbClr val="2d4141"/>
                </a:solidFill>
                <a:uFillTx/>
                <a:latin typeface="Futura Condensed"/>
              </a:rPr>
              <a:t>understood deeply</a:t>
            </a:r>
            <a:r>
              <a:rPr b="0" lang="en-US" sz="4600" spc="-1" strike="noStrike">
                <a:solidFill>
                  <a:srgbClr val="2d4141"/>
                </a:solidFill>
                <a:latin typeface="Futura Condensed"/>
              </a:rPr>
              <a:t>.”</a:t>
            </a:r>
            <a:endParaRPr b="0" lang="en-US" sz="4600" spc="-1" strike="noStrike">
              <a:solidFill>
                <a:srgbClr val="2d4141"/>
              </a:solidFill>
              <a:latin typeface="Futura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Listen to the Natives</a:t>
            </a:r>
            <a:endParaRPr b="0" lang="en-US" sz="6200" spc="-1" strike="noStrike">
              <a:solidFill>
                <a:srgbClr val="ffffff"/>
              </a:solidFill>
              <a:latin typeface="Futura Condensed"/>
            </a:endParaRPr>
          </a:p>
        </p:txBody>
      </p:sp>
      <p:sp>
        <p:nvSpPr>
          <p:cNvPr id="491"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2000"/>
          </a:bodyPr>
          <a:p>
            <a:pPr marL="1300320" indent="-125856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We must change our policies and attitudes towards classroom use of Web 2.0 applications and student-owned technology tools. As educators, we must overcome our fears and “listen to the natives” in order to engage and motivate our students.  </a:t>
            </a:r>
            <a:endParaRPr b="0" lang="en-US" sz="4600" spc="-1" strike="noStrike">
              <a:solidFill>
                <a:srgbClr val="2d4141"/>
              </a:solidFill>
              <a:latin typeface="Futura Condensed"/>
            </a:endParaRPr>
          </a:p>
          <a:p>
            <a:pPr marL="1300320" indent="-125856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According to Emily Rhoades (2009) “Today's faculty members (elementary through college) are using podcasts, wikis, chat rooms, online curricula and virtual realities to help students become successful in the classroom.”</a:t>
            </a:r>
            <a:endParaRPr b="0" lang="en-US" sz="4600" spc="-1" strike="noStrike">
              <a:solidFill>
                <a:srgbClr val="2d4141"/>
              </a:solidFill>
              <a:latin typeface="Futura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Policy Implications</a:t>
            </a:r>
            <a:endParaRPr b="0" lang="en-US" sz="6200" spc="-1" strike="noStrike">
              <a:solidFill>
                <a:srgbClr val="ffffff"/>
              </a:solidFill>
              <a:latin typeface="Futura Condensed"/>
            </a:endParaRPr>
          </a:p>
        </p:txBody>
      </p:sp>
      <p:sp>
        <p:nvSpPr>
          <p:cNvPr id="493"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7000"/>
          </a:bodyPr>
          <a:p>
            <a:pPr marL="1335240" indent="-133524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ere are significant policy implications that accompany our Digital Native Learning Framework. Changes are required to:</a:t>
            </a:r>
            <a:endParaRPr b="0" lang="en-US" sz="4600" spc="-1" strike="noStrike">
              <a:solidFill>
                <a:srgbClr val="2d4141"/>
              </a:solidFill>
              <a:latin typeface="Futura Condensed"/>
            </a:endParaRPr>
          </a:p>
          <a:p>
            <a:pPr lvl="2" marL="2549160" indent="-825840">
              <a:lnSpc>
                <a:spcPct val="100000"/>
              </a:lnSpc>
              <a:spcBef>
                <a:spcPts val="2801"/>
              </a:spcBef>
              <a:buClr>
                <a:srgbClr val="000000"/>
              </a:buClr>
              <a:buSzPct val="125000"/>
              <a:buFont typeface="Futura Condensed"/>
              <a:buChar char="•"/>
              <a:tabLst>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ontent Filtering and Blocking Policies</a:t>
            </a:r>
            <a:endParaRPr b="0" lang="en-US" sz="4600" spc="-1" strike="noStrike">
              <a:solidFill>
                <a:srgbClr val="2d4141"/>
              </a:solidFill>
              <a:latin typeface="Futura Condensed"/>
            </a:endParaRPr>
          </a:p>
          <a:p>
            <a:pPr lvl="2" marL="2549160" indent="-825840">
              <a:lnSpc>
                <a:spcPct val="100000"/>
              </a:lnSpc>
              <a:spcBef>
                <a:spcPts val="2801"/>
              </a:spcBef>
              <a:buClr>
                <a:srgbClr val="000000"/>
              </a:buClr>
              <a:buSzPct val="125000"/>
              <a:buFont typeface="Futura Condensed"/>
              <a:buChar char="•"/>
              <a:tabLst>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Acceptable Use and Web Publishing Policies</a:t>
            </a:r>
            <a:endParaRPr b="0" lang="en-US" sz="4600" spc="-1" strike="noStrike">
              <a:solidFill>
                <a:srgbClr val="2d4141"/>
              </a:solidFill>
              <a:latin typeface="Futura Condensed"/>
            </a:endParaRPr>
          </a:p>
          <a:p>
            <a:pPr lvl="2" marL="2549160" indent="-825840">
              <a:lnSpc>
                <a:spcPct val="100000"/>
              </a:lnSpc>
              <a:spcBef>
                <a:spcPts val="2801"/>
              </a:spcBef>
              <a:buClr>
                <a:srgbClr val="000000"/>
              </a:buClr>
              <a:buSzPct val="125000"/>
              <a:buFont typeface="Futura Condensed"/>
              <a:buChar char="•"/>
              <a:tabLst>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tudent Codes of Conduct and Handbooks</a:t>
            </a:r>
            <a:endParaRPr b="0" lang="en-US" sz="4600" spc="-1" strike="noStrike">
              <a:solidFill>
                <a:srgbClr val="2d4141"/>
              </a:solidFill>
              <a:latin typeface="Futura Condensed"/>
            </a:endParaRPr>
          </a:p>
          <a:p>
            <a:pPr lvl="2" marL="2549160" indent="-825840">
              <a:lnSpc>
                <a:spcPct val="100000"/>
              </a:lnSpc>
              <a:spcBef>
                <a:spcPts val="2801"/>
              </a:spcBef>
              <a:buClr>
                <a:srgbClr val="000000"/>
              </a:buClr>
              <a:buSzPct val="125000"/>
              <a:buFont typeface="Futura Condensed"/>
              <a:buChar char="•"/>
              <a:tabLst>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ass Policies and Individual Work Policies</a:t>
            </a:r>
            <a:endParaRPr b="0" lang="en-US" sz="4600" spc="-1" strike="noStrike">
              <a:solidFill>
                <a:srgbClr val="2d4141"/>
              </a:solidFill>
              <a:latin typeface="Futura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Digital Immigrants and Digital Natives</a:t>
            </a:r>
            <a:endParaRPr b="0" lang="en-US" sz="6200" spc="-1" strike="noStrike">
              <a:solidFill>
                <a:srgbClr val="ffffff"/>
              </a:solidFill>
              <a:latin typeface="Futura Condensed"/>
            </a:endParaRPr>
          </a:p>
        </p:txBody>
      </p:sp>
      <p:sp>
        <p:nvSpPr>
          <p:cNvPr id="453"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0000"/>
          </a:bodyPr>
          <a:p>
            <a:pPr marL="1268640" indent="-122796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oday, we as educators find ourselves in a “new world”. Digital technology has transformed our classrooms and changed our students in ways we often do not understand.</a:t>
            </a:r>
            <a:endParaRPr b="0" lang="en-US" sz="4600" spc="-1" strike="noStrike">
              <a:solidFill>
                <a:srgbClr val="2d4141"/>
              </a:solidFill>
              <a:latin typeface="Futura Condensed"/>
            </a:endParaRPr>
          </a:p>
          <a:p>
            <a:pPr marL="1268640" indent="-122796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Author Marc Prensky holds that we, like our forefathers who immigrated to America long ago, are “Digital Immigrants”, strangers in this new digital world. However, our children are “Digital Natives”, born and raised in this digital world, free of the constraints and customs of the “old world” we knew.</a:t>
            </a:r>
            <a:endParaRPr b="0" lang="en-US" sz="4600" spc="-1" strike="noStrike">
              <a:solidFill>
                <a:srgbClr val="2d4141"/>
              </a:solidFill>
              <a:latin typeface="Futura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Time to Shift the Paradigm</a:t>
            </a:r>
            <a:endParaRPr b="0" lang="en-US" sz="6200" spc="-1" strike="noStrike">
              <a:solidFill>
                <a:srgbClr val="ffffff"/>
              </a:solidFill>
              <a:latin typeface="Futura Condensed"/>
            </a:endParaRPr>
          </a:p>
        </p:txBody>
      </p:sp>
      <p:sp>
        <p:nvSpPr>
          <p:cNvPr id="49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77000"/>
          </a:bodyPr>
          <a:p>
            <a:pPr marL="1220760" indent="-118188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hange is never easy, especially with stakeholders as varied as school leaders, board members, community members, parents, and our government. However, we as educational leaders must communicate the importance of this change in enabling ways that promote buy-in from all stakeholders.</a:t>
            </a:r>
            <a:endParaRPr b="0" lang="en-US" sz="4600" spc="-1" strike="noStrike">
              <a:solidFill>
                <a:srgbClr val="2d4141"/>
              </a:solidFill>
              <a:latin typeface="Futura Condensed"/>
            </a:endParaRPr>
          </a:p>
          <a:p>
            <a:pPr marL="1220760" indent="-118188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We have all experienced paradigm shifts; it is now </a:t>
            </a:r>
            <a:r>
              <a:rPr b="0" lang="en-US" sz="4600" spc="-1" strike="noStrike" u="sng">
                <a:solidFill>
                  <a:srgbClr val="2d4141"/>
                </a:solidFill>
                <a:uFillTx/>
                <a:latin typeface="Futura Condensed"/>
              </a:rPr>
              <a:t>our time</a:t>
            </a:r>
            <a:r>
              <a:rPr b="0" lang="en-US" sz="4600" spc="-1" strike="noStrike">
                <a:solidFill>
                  <a:srgbClr val="2d4141"/>
                </a:solidFill>
                <a:latin typeface="Futura Condensed"/>
              </a:rPr>
              <a:t> to lead the Digital Native Paradigm Shift, making our schools 21st Century relevant and engaging havens for our students.</a:t>
            </a:r>
            <a:endParaRPr b="0" lang="en-US" sz="4600" spc="-1" strike="noStrike">
              <a:solidFill>
                <a:srgbClr val="2d4141"/>
              </a:solidFill>
              <a:latin typeface="Futura Condense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Our Children’s Future is in Your Hands...</a:t>
            </a:r>
            <a:endParaRPr b="0" lang="en-US" sz="6200" spc="-1" strike="noStrike">
              <a:solidFill>
                <a:srgbClr val="ffffff"/>
              </a:solidFill>
              <a:latin typeface="Futura Condensed"/>
            </a:endParaRPr>
          </a:p>
        </p:txBody>
      </p:sp>
      <p:sp>
        <p:nvSpPr>
          <p:cNvPr id="49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marL="1535040" indent="-1535040">
              <a:lnSpc>
                <a:spcPct val="100000"/>
              </a:lnSpc>
              <a:spcBef>
                <a:spcPts val="2801"/>
              </a:spcBef>
              <a:buSzPct val="1594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4141"/>
                </a:solidFill>
                <a:latin typeface="Futura Condensed"/>
              </a:rPr>
              <a:t>"As for the future, your task is not to foresee it, but to enable it."</a:t>
            </a:r>
            <a:endParaRPr b="0" lang="en-US" sz="4000" spc="-1" strike="noStrike">
              <a:solidFill>
                <a:srgbClr val="2d4141"/>
              </a:solidFill>
              <a:latin typeface="Futura Condensed"/>
            </a:endParaRPr>
          </a:p>
          <a:p>
            <a:pPr marL="1535040" indent="0">
              <a:lnSpc>
                <a:spcPct val="100000"/>
              </a:lnSpc>
              <a:spcBef>
                <a:spcPts val="28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4141"/>
                </a:solidFill>
                <a:latin typeface="Futura Condensed"/>
                <a:ea typeface="ヒラギノ角ゴ Pro W3"/>
              </a:rPr>
              <a:t>	</a:t>
            </a:r>
            <a:r>
              <a:rPr b="0" lang="en-US" sz="3600" spc="-1" strike="noStrike">
                <a:solidFill>
                  <a:srgbClr val="2d4141"/>
                </a:solidFill>
                <a:latin typeface="Futura Condensed"/>
                <a:ea typeface="ヒラギノ角ゴ Pro W3"/>
              </a:rPr>
              <a:t>	</a:t>
            </a:r>
            <a:r>
              <a:rPr b="0" lang="en-US" sz="3600" spc="-1" strike="noStrike">
                <a:solidFill>
                  <a:srgbClr val="2d4141"/>
                </a:solidFill>
                <a:latin typeface="Futura Condensed"/>
                <a:ea typeface="ヒラギノ角ゴ Pro W3"/>
              </a:rPr>
              <a:t>	</a:t>
            </a:r>
            <a:r>
              <a:rPr b="0" lang="en-US" sz="3600" spc="-1" strike="noStrike">
                <a:solidFill>
                  <a:srgbClr val="2d4141"/>
                </a:solidFill>
                <a:latin typeface="Futura Condensed"/>
                <a:ea typeface="ヒラギノ角ゴ Pro W3"/>
              </a:rPr>
              <a:t>	</a:t>
            </a:r>
            <a:r>
              <a:rPr b="0" lang="en-US" sz="3600" spc="-1" strike="noStrike">
                <a:solidFill>
                  <a:srgbClr val="2d4141"/>
                </a:solidFill>
                <a:latin typeface="Futura Condensed"/>
                <a:ea typeface="ヒラギノ角ゴ Pro W3"/>
              </a:rPr>
              <a:t>	</a:t>
            </a:r>
            <a:r>
              <a:rPr b="0" lang="en-US" sz="3000" spc="-1" strike="noStrike">
                <a:solidFill>
                  <a:srgbClr val="2d4141"/>
                </a:solidFill>
                <a:latin typeface="Futura Condensed"/>
              </a:rPr>
              <a:t>- Antoine de Saint-Exupéry</a:t>
            </a:r>
            <a:endParaRPr b="0" lang="en-US" sz="3000" spc="-1" strike="noStrike">
              <a:solidFill>
                <a:srgbClr val="2d4141"/>
              </a:solidFill>
              <a:latin typeface="Futura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References</a:t>
            </a:r>
            <a:endParaRPr b="0" lang="en-US" sz="6200" spc="-1" strike="noStrike">
              <a:solidFill>
                <a:srgbClr val="ffffff"/>
              </a:solidFill>
              <a:latin typeface="Futura Condensed"/>
            </a:endParaRPr>
          </a:p>
        </p:txBody>
      </p:sp>
      <p:sp>
        <p:nvSpPr>
          <p:cNvPr id="499" name=""/>
          <p:cNvSpPr/>
          <p:nvPr/>
        </p:nvSpPr>
        <p:spPr>
          <a:xfrm>
            <a:off x="11160" y="755640"/>
            <a:ext cx="12992040" cy="8229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4141"/>
              </a:solidFill>
              <a:latin typeface="Futura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4141"/>
              </a:solidFill>
              <a:latin typeface="Futura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4141"/>
              </a:solidFill>
              <a:latin typeface="Futura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4141"/>
              </a:solidFill>
              <a:latin typeface="Futura Condensed"/>
            </a:endParaRPr>
          </a:p>
          <a:p>
            <a:pPr>
              <a:lnSpc>
                <a:spcPct val="100000"/>
              </a:lnSpc>
              <a:buClr>
                <a:srgbClr val="2d4141"/>
              </a:buClr>
              <a:buSzPct val="125000"/>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a:ea typeface="Futura"/>
              </a:rPr>
              <a:t>Prensky, Marc (2005). Listen to the Natives. </a:t>
            </a:r>
            <a:r>
              <a:rPr b="0" i="1" lang="en-US" sz="2400" spc="-1" strike="noStrike">
                <a:solidFill>
                  <a:srgbClr val="2d4141"/>
                </a:solidFill>
                <a:latin typeface="Futura"/>
                <a:ea typeface="Futura"/>
              </a:rPr>
              <a:t>Educational Leadership</a:t>
            </a:r>
            <a:r>
              <a:rPr b="0" lang="en-US" sz="2400" spc="-1" strike="noStrike">
                <a:solidFill>
                  <a:srgbClr val="2d4141"/>
                </a:solidFill>
                <a:latin typeface="Futura"/>
                <a:ea typeface="Futura"/>
              </a:rPr>
              <a:t>, </a:t>
            </a:r>
            <a:r>
              <a:rPr b="0" i="1" lang="en-US" sz="2400" spc="-1" strike="noStrike">
                <a:solidFill>
                  <a:srgbClr val="2d4141"/>
                </a:solidFill>
                <a:latin typeface="Futura"/>
                <a:ea typeface="Futura"/>
              </a:rPr>
              <a:t>63</a:t>
            </a:r>
            <a:r>
              <a:rPr b="0" lang="en-US" sz="2400" spc="-1" strike="noStrike">
                <a:solidFill>
                  <a:srgbClr val="2d4141"/>
                </a:solidFill>
                <a:latin typeface="Futura"/>
                <a:ea typeface="Futura"/>
              </a:rPr>
              <a:t>(4), p. 8.Nesbitt, B. J. (2007). A Vision of K-12 Students Today. </a:t>
            </a:r>
            <a:r>
              <a:rPr b="0" i="1" lang="en-US" sz="2400" spc="-1" strike="noStrike">
                <a:solidFill>
                  <a:srgbClr val="2d4141"/>
                </a:solidFill>
                <a:latin typeface="Futura"/>
                <a:ea typeface="Futura"/>
              </a:rPr>
              <a:t>YouTube</a:t>
            </a:r>
            <a:r>
              <a:rPr b="0" lang="en-US" sz="2400" spc="-1" strike="noStrike">
                <a:solidFill>
                  <a:srgbClr val="2d4141"/>
                </a:solidFill>
                <a:latin typeface="Futura"/>
                <a:ea typeface="Futura"/>
              </a:rPr>
              <a:t>. Retrieved April 12, 2010,</a:t>
            </a:r>
            <a:endParaRPr b="0" lang="en-US" sz="2400" spc="-1" strike="noStrike">
              <a:solidFill>
                <a:srgbClr val="2d4141"/>
              </a:solidFill>
              <a:latin typeface="Futura Condensed"/>
            </a:endParaRPr>
          </a:p>
          <a:p>
            <a:pPr>
              <a:lnSpc>
                <a:spcPct val="100000"/>
              </a:lnSpc>
              <a:buClr>
                <a:srgbClr val="2d4141"/>
              </a:buClr>
              <a:buSzPct val="125000"/>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a:ea typeface="Futura"/>
              </a:rPr>
              <a:t>from </a:t>
            </a:r>
            <a:r>
              <a:rPr b="0" lang="en-US" sz="2400" spc="-1" strike="noStrike" u="sng">
                <a:solidFill>
                  <a:srgbClr val="009999"/>
                </a:solidFill>
                <a:uFillTx/>
                <a:latin typeface="Futura"/>
                <a:ea typeface="Futura"/>
                <a:hlinkClick r:id="rId2"/>
              </a:rPr>
              <a:t>http://www.youtube.com/watch</a:t>
            </a:r>
            <a:r>
              <a:rPr b="0" lang="en-US" sz="2400" spc="-1" strike="noStrike" u="sng">
                <a:solidFill>
                  <a:srgbClr val="009999"/>
                </a:solidFill>
                <a:uFillTx/>
                <a:latin typeface="Arial"/>
                <a:ea typeface="Arial"/>
                <a:hlinkClick r:id="rId3"/>
              </a:rPr>
              <a:t>?</a:t>
            </a:r>
            <a:r>
              <a:rPr b="0" lang="en-US" sz="2400" spc="-1" strike="noStrike" u="sng">
                <a:solidFill>
                  <a:srgbClr val="009999"/>
                </a:solidFill>
                <a:uFillTx/>
                <a:latin typeface="Futura"/>
                <a:ea typeface="Futura"/>
                <a:hlinkClick r:id="rId4"/>
              </a:rPr>
              <a:t>v=_A-ZVCjfWf8</a:t>
            </a:r>
            <a:endParaRPr b="0" lang="en-US" sz="2400" spc="-1" strike="noStrike">
              <a:solidFill>
                <a:srgbClr val="2d4141"/>
              </a:solidFill>
              <a:latin typeface="Futura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a:ea typeface="Futura"/>
              </a:rPr>
              <a:t>Armstrong, Sara &amp; Warlick, David (2004).</a:t>
            </a:r>
            <a:r>
              <a:rPr b="0" i="1" lang="en-US" sz="2400" spc="-1" strike="noStrike">
                <a:solidFill>
                  <a:srgbClr val="2d4141"/>
                </a:solidFill>
                <a:latin typeface="Futura"/>
                <a:ea typeface="Futura"/>
              </a:rPr>
              <a:t> </a:t>
            </a:r>
            <a:r>
              <a:rPr b="0" lang="en-US" sz="2400" spc="-1" strike="noStrike">
                <a:solidFill>
                  <a:srgbClr val="2d4141"/>
                </a:solidFill>
                <a:latin typeface="Futura"/>
                <a:ea typeface="Futura"/>
              </a:rPr>
              <a:t>The NEW Literacy: The 3Rs Evolve into the 4Es.</a:t>
            </a:r>
            <a:endParaRPr b="0" lang="en-US" sz="2400" spc="-1" strike="noStrike">
              <a:solidFill>
                <a:srgbClr val="2d4141"/>
              </a:solidFill>
              <a:latin typeface="Futura Condensed"/>
            </a:endParaRPr>
          </a:p>
          <a:p>
            <a:pPr>
              <a:lnSpc>
                <a:spcPct val="100000"/>
              </a:lnSpc>
              <a:buClr>
                <a:srgbClr val="2d4141"/>
              </a:buClr>
              <a:buSzPct val="125000"/>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4141"/>
                </a:solidFill>
                <a:latin typeface="Futura"/>
                <a:ea typeface="Futura"/>
              </a:rPr>
              <a:t>Technology &amp; Learning, 25</a:t>
            </a:r>
            <a:r>
              <a:rPr b="0" lang="en-US" sz="2400" spc="-1" strike="noStrike">
                <a:solidFill>
                  <a:srgbClr val="2d4141"/>
                </a:solidFill>
                <a:latin typeface="Futura"/>
                <a:ea typeface="Futura"/>
              </a:rPr>
              <a:t>(2), p. 20.</a:t>
            </a:r>
            <a:endParaRPr b="0" lang="en-US" sz="2400" spc="-1" strike="noStrike">
              <a:solidFill>
                <a:srgbClr val="2d4141"/>
              </a:solidFill>
              <a:latin typeface="Futura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a:ea typeface="Futura"/>
              </a:rPr>
              <a:t>Schacter, J., &amp; Fagnano, C. (1999). Does computer technology improve student learning</a:t>
            </a:r>
            <a:endParaRPr b="0" lang="en-US" sz="2400" spc="-1" strike="noStrike">
              <a:solidFill>
                <a:srgbClr val="2d4141"/>
              </a:solidFill>
              <a:latin typeface="Futura Condensed"/>
            </a:endParaRPr>
          </a:p>
          <a:p>
            <a:pPr>
              <a:lnSpc>
                <a:spcPct val="100000"/>
              </a:lnSpc>
              <a:buClr>
                <a:srgbClr val="2d4141"/>
              </a:buClr>
              <a:buSzPct val="125000"/>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a:ea typeface="Futura"/>
              </a:rPr>
              <a:t>and achievement</a:t>
            </a:r>
            <a:r>
              <a:rPr b="1" lang="en-US" sz="2400" spc="-1" strike="noStrike">
                <a:solidFill>
                  <a:srgbClr val="2d4141"/>
                </a:solidFill>
                <a:latin typeface="Arial"/>
                <a:ea typeface="Arial"/>
              </a:rPr>
              <a:t>?</a:t>
            </a:r>
            <a:r>
              <a:rPr b="0" lang="en-US" sz="2400" spc="-1" strike="noStrike">
                <a:solidFill>
                  <a:srgbClr val="2d4141"/>
                </a:solidFill>
                <a:latin typeface="Futura"/>
                <a:ea typeface="Futura"/>
              </a:rPr>
              <a:t> How, when, and under what conditions</a:t>
            </a:r>
            <a:r>
              <a:rPr b="1" lang="en-US" sz="2400" spc="-1" strike="noStrike">
                <a:solidFill>
                  <a:srgbClr val="2d4141"/>
                </a:solidFill>
                <a:latin typeface="Arial"/>
                <a:ea typeface="Arial"/>
              </a:rPr>
              <a:t>?</a:t>
            </a:r>
            <a:r>
              <a:rPr b="0" lang="en-US" sz="2400" spc="-1" strike="noStrike">
                <a:solidFill>
                  <a:srgbClr val="2d4141"/>
                </a:solidFill>
                <a:latin typeface="Futura"/>
                <a:ea typeface="Futura"/>
              </a:rPr>
              <a:t> </a:t>
            </a:r>
            <a:r>
              <a:rPr b="0" i="1" lang="en-US" sz="2400" spc="-1" strike="noStrike">
                <a:solidFill>
                  <a:srgbClr val="2d4141"/>
                </a:solidFill>
                <a:latin typeface="Futura"/>
                <a:ea typeface="Futura"/>
              </a:rPr>
              <a:t>Journal of Educational Computing Research</a:t>
            </a:r>
            <a:r>
              <a:rPr b="0" lang="en-US" sz="2400" spc="-1" strike="noStrike">
                <a:solidFill>
                  <a:srgbClr val="2d4141"/>
                </a:solidFill>
                <a:latin typeface="Futura"/>
                <a:ea typeface="Futura"/>
              </a:rPr>
              <a:t>, </a:t>
            </a:r>
            <a:r>
              <a:rPr b="0" i="1" lang="en-US" sz="2400" spc="-1" strike="noStrike">
                <a:solidFill>
                  <a:srgbClr val="2d4141"/>
                </a:solidFill>
                <a:latin typeface="Futura"/>
                <a:ea typeface="Futura"/>
              </a:rPr>
              <a:t>20</a:t>
            </a:r>
            <a:r>
              <a:rPr b="0" lang="en-US" sz="2400" spc="-1" strike="noStrike">
                <a:solidFill>
                  <a:srgbClr val="2d4141"/>
                </a:solidFill>
                <a:latin typeface="Futura"/>
                <a:ea typeface="Futura"/>
              </a:rPr>
              <a:t>(4), p. 331.Johnson, D. W., Johnson, R. T., &amp; Stanne, M. B. (2000). </a:t>
            </a:r>
            <a:r>
              <a:rPr b="0" i="1" lang="en-US" sz="2400" spc="-1" strike="noStrike">
                <a:solidFill>
                  <a:srgbClr val="2d4141"/>
                </a:solidFill>
                <a:latin typeface="Futura"/>
                <a:ea typeface="Futura"/>
              </a:rPr>
              <a:t>Cooperative learning methods:</a:t>
            </a:r>
            <a:endParaRPr b="0" lang="en-US" sz="2400" spc="-1" strike="noStrike">
              <a:solidFill>
                <a:srgbClr val="2d4141"/>
              </a:solidFill>
              <a:latin typeface="Futura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4141"/>
                </a:solidFill>
                <a:latin typeface="Futura"/>
                <a:ea typeface="Futura"/>
              </a:rPr>
              <a:t>A meta-analysis</a:t>
            </a:r>
            <a:r>
              <a:rPr b="0" lang="en-US" sz="2400" spc="-1" strike="noStrike">
                <a:solidFill>
                  <a:srgbClr val="2d4141"/>
                </a:solidFill>
                <a:latin typeface="Futura"/>
                <a:ea typeface="Futura"/>
              </a:rPr>
              <a:t>. Minneapolis, MN:University of Minnesota. Retrieved January 24, 2010, from http://www.co-operation.org/pages/cl-methods.html Solomon, G. &amp; Schrum, L. (2007). </a:t>
            </a:r>
            <a:r>
              <a:rPr b="0" i="1" lang="en-US" sz="2400" spc="-1" strike="noStrike">
                <a:solidFill>
                  <a:srgbClr val="2d4141"/>
                </a:solidFill>
                <a:latin typeface="Futura"/>
                <a:ea typeface="Futura"/>
              </a:rPr>
              <a:t>Web 2.0: New Tools, New Schools</a:t>
            </a:r>
            <a:r>
              <a:rPr b="0" lang="en-US" sz="2400" spc="-1" strike="noStrike">
                <a:solidFill>
                  <a:srgbClr val="2d4141"/>
                </a:solidFill>
                <a:latin typeface="Futura"/>
                <a:ea typeface="Futura"/>
              </a:rPr>
              <a:t>. Washington,</a:t>
            </a:r>
            <a:endParaRPr b="0" lang="en-US" sz="2400" spc="-1" strike="noStrike">
              <a:solidFill>
                <a:srgbClr val="2d4141"/>
              </a:solidFill>
              <a:latin typeface="Futura Condensed"/>
            </a:endParaRPr>
          </a:p>
          <a:p>
            <a:pPr>
              <a:lnSpc>
                <a:spcPct val="100000"/>
              </a:lnSpc>
              <a:buClr>
                <a:srgbClr val="2d4141"/>
              </a:buClr>
              <a:buSzPct val="125000"/>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a:ea typeface="Futura"/>
              </a:rPr>
              <a:t>DC:ISTE p. 20.</a:t>
            </a:r>
            <a:endParaRPr b="0" lang="en-US" sz="2400" spc="-1" strike="noStrike">
              <a:solidFill>
                <a:srgbClr val="2d4141"/>
              </a:solidFill>
              <a:latin typeface="Futura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a:ea typeface="Futura"/>
              </a:rPr>
              <a:t>Rhoades, E. B. (2009). Can Web 2.0 improve our collaboration</a:t>
            </a:r>
            <a:r>
              <a:rPr b="1" lang="en-US" sz="2400" spc="-1" strike="noStrike">
                <a:solidFill>
                  <a:srgbClr val="2d4141"/>
                </a:solidFill>
                <a:latin typeface="Arial"/>
                <a:ea typeface="Arial"/>
              </a:rPr>
              <a:t>?</a:t>
            </a:r>
            <a:r>
              <a:rPr b="0" lang="en-US" sz="2400" spc="-1" strike="noStrike">
                <a:solidFill>
                  <a:srgbClr val="2d4141"/>
                </a:solidFill>
                <a:latin typeface="Futura"/>
                <a:ea typeface="Futura"/>
              </a:rPr>
              <a:t> (TECHNOLOGY USAGE</a:t>
            </a:r>
            <a:endParaRPr b="0" lang="en-US" sz="2400" spc="-1" strike="noStrike">
              <a:solidFill>
                <a:srgbClr val="2d4141"/>
              </a:solidFill>
              <a:latin typeface="Futura Condensed"/>
            </a:endParaRPr>
          </a:p>
          <a:p>
            <a:pPr>
              <a:lnSpc>
                <a:spcPct val="100000"/>
              </a:lnSpc>
              <a:buClr>
                <a:srgbClr val="2d4141"/>
              </a:buClr>
              <a:buSzPct val="125000"/>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141"/>
                </a:solidFill>
                <a:latin typeface="Futura"/>
                <a:ea typeface="Futura"/>
              </a:rPr>
              <a:t>IN THE CLASSROOM) </a:t>
            </a:r>
            <a:r>
              <a:rPr b="0" i="1" lang="en-US" sz="2400" spc="-1" strike="noStrike">
                <a:solidFill>
                  <a:srgbClr val="2d4141"/>
                </a:solidFill>
                <a:latin typeface="Futura"/>
                <a:ea typeface="Futura"/>
              </a:rPr>
              <a:t>Techniques, 84</a:t>
            </a:r>
            <a:r>
              <a:rPr b="0" lang="en-US" sz="2400" spc="-1" strike="noStrike">
                <a:solidFill>
                  <a:srgbClr val="2d4141"/>
                </a:solidFill>
                <a:latin typeface="Futura"/>
                <a:ea typeface="Futura"/>
              </a:rPr>
              <a:t>(1), p. 24.</a:t>
            </a:r>
            <a:endParaRPr b="0" lang="en-US" sz="2400" spc="-1" strike="noStrike">
              <a:solidFill>
                <a:srgbClr val="2d4141"/>
              </a:solidFill>
              <a:latin typeface="Futura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4141"/>
              </a:solidFill>
              <a:latin typeface="Futura Condensed"/>
            </a:endParaRPr>
          </a:p>
          <a:p>
            <a:pPr>
              <a:lnSpc>
                <a:spcPct val="100000"/>
              </a:lnSpc>
              <a:buClr>
                <a:srgbClr val="2d4141"/>
              </a:buClr>
              <a:buSzPct val="125000"/>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4141"/>
              </a:solidFill>
              <a:latin typeface="Futura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4141"/>
              </a:solidFill>
              <a:latin typeface="Futura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A Brave New World</a:t>
            </a:r>
            <a:endParaRPr b="0" lang="en-US" sz="6200" spc="-1" strike="noStrike">
              <a:solidFill>
                <a:srgbClr val="ffffff"/>
              </a:solidFill>
              <a:latin typeface="Futura Condensed"/>
            </a:endParaRPr>
          </a:p>
        </p:txBody>
      </p:sp>
      <p:sp>
        <p:nvSpPr>
          <p:cNvPr id="45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2000"/>
          </a:bodyPr>
          <a:p>
            <a:pPr marL="1300320" indent="-125856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Marc Prensky (2005) states that “Our students are no longer ‘little versions of us,’ as they may have been in the past. In fact, they are so different from us that we can no longer use either our 20th century knowledge or our training as a guide to what is best for them educationally.” </a:t>
            </a:r>
            <a:endParaRPr b="0" lang="en-US" sz="4600" spc="-1" strike="noStrike">
              <a:solidFill>
                <a:srgbClr val="2d4141"/>
              </a:solidFill>
              <a:latin typeface="Futura Condensed"/>
            </a:endParaRPr>
          </a:p>
          <a:p>
            <a:pPr marL="1300320" indent="-125856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We as Digital Immigrant teachers are incapable of seeing this brave new world through our children’s eyes. We fear their new customs, and see hidden dangers everywhere.</a:t>
            </a:r>
            <a:endParaRPr b="0" lang="en-US" sz="4600" spc="-1" strike="noStrike">
              <a:solidFill>
                <a:srgbClr val="2d4141"/>
              </a:solidFill>
              <a:latin typeface="Futura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Teaching in the New World</a:t>
            </a:r>
            <a:endParaRPr b="0" lang="en-US" sz="6200" spc="-1" strike="noStrike">
              <a:solidFill>
                <a:srgbClr val="ffffff"/>
              </a:solidFill>
              <a:latin typeface="Futura Condensed"/>
            </a:endParaRPr>
          </a:p>
        </p:txBody>
      </p:sp>
      <p:sp>
        <p:nvSpPr>
          <p:cNvPr id="45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8000"/>
          </a:bodyPr>
          <a:p>
            <a:pPr marL="1395360" indent="-135072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If our Digital Native students are so fundamentally different from us, how do we reach them? How are we to teach them?  </a:t>
            </a:r>
            <a:endParaRPr b="0" lang="en-US" sz="4600" spc="-1" strike="noStrike">
              <a:solidFill>
                <a:srgbClr val="2d4141"/>
              </a:solidFill>
              <a:latin typeface="Futura Condensed"/>
            </a:endParaRPr>
          </a:p>
          <a:p>
            <a:pPr marL="1395360" indent="-135072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As immigrants, we must explore the new landscape, learn how the natives communicate, and adopt their customs and their ways. We must, as Prensky suggests, “Listen to the Natives” to see a vision of the digital world, and ourselves as teachers, through their eyes...</a:t>
            </a:r>
            <a:endParaRPr b="0" lang="en-US" sz="4600" spc="-1" strike="noStrike">
              <a:solidFill>
                <a:srgbClr val="2d4141"/>
              </a:solidFill>
              <a:latin typeface="Futura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A Vision of K-12 Students Today</a:t>
            </a:r>
            <a:endParaRPr b="0" lang="en-US" sz="6200" spc="-1" strike="noStrike">
              <a:solidFill>
                <a:srgbClr val="ffffff"/>
              </a:solidFill>
              <a:latin typeface="Futura Condensed"/>
            </a:endParaRPr>
          </a:p>
        </p:txBody>
      </p:sp>
      <p:pic>
        <p:nvPicPr>
          <p:cNvPr id="459" name="Digital Native Learning Framework.ppt_media/A-Vision-of-K-12-Students-Today[www.savevid.com].mov" descr=""/>
          <p:cNvPicPr/>
          <p:nvPr/>
        </p:nvPicPr>
        <p:blipFill>
          <a:blip r:embed="rId2"/>
          <a:stretch/>
        </p:blipFill>
        <p:spPr>
          <a:xfrm>
            <a:off x="1727280" y="2311560"/>
            <a:ext cx="9550440" cy="7162560"/>
          </a:xfrm>
          <a:prstGeom prst="rect">
            <a:avLst/>
          </a:prstGeom>
          <a:ln w="0">
            <a:noFill/>
          </a:ln>
        </p:spPr>
      </p:pic>
      <p:sp>
        <p:nvSpPr>
          <p:cNvPr id="460" name=""/>
          <p:cNvSpPr/>
          <p:nvPr/>
        </p:nvSpPr>
        <p:spPr>
          <a:xfrm>
            <a:off x="317160" y="9486360"/>
            <a:ext cx="12354480" cy="24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4141"/>
                </a:solidFill>
                <a:latin typeface="Futura Condensed"/>
                <a:ea typeface="Futura Condensed"/>
              </a:rPr>
              <a:t>Source: Nesbitt, B. J. (2007). A Vision of K-12 Students Today. YouTube. Retrieved April 12, 2010, from </a:t>
            </a:r>
            <a:r>
              <a:rPr b="0" lang="en-US" sz="1400" spc="-1" strike="noStrike" u="sng">
                <a:solidFill>
                  <a:srgbClr val="009999"/>
                </a:solidFill>
                <a:uFillTx/>
                <a:latin typeface="Futura Condensed"/>
                <a:ea typeface="Futura Condensed"/>
                <a:hlinkClick r:id="rId3"/>
              </a:rPr>
              <a:t>http://www.youtube.com/watch?v=_A-ZVCjfWf8</a:t>
            </a:r>
            <a:endParaRPr b="0" lang="en-US" sz="1400" spc="-1" strike="noStrike">
              <a:solidFill>
                <a:srgbClr val="2d4141"/>
              </a:solidFill>
              <a:latin typeface="Futura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A Sobering Vision</a:t>
            </a:r>
            <a:endParaRPr b="0" lang="en-US" sz="6200" spc="-1" strike="noStrike">
              <a:solidFill>
                <a:srgbClr val="ffffff"/>
              </a:solidFill>
              <a:latin typeface="Futura Condensed"/>
            </a:endParaRPr>
          </a:p>
        </p:txBody>
      </p:sp>
      <p:sp>
        <p:nvSpPr>
          <p:cNvPr id="462"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79000"/>
          </a:bodyPr>
          <a:p>
            <a:pPr marL="1252440" indent="-121248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We now have a clearer, but sobering, vision of how our students view their world, our schools, and us as teachers. </a:t>
            </a:r>
            <a:endParaRPr b="0" lang="en-US" sz="4600" spc="-1" strike="noStrike">
              <a:solidFill>
                <a:srgbClr val="2d4141"/>
              </a:solidFill>
              <a:latin typeface="Futura Condensed"/>
            </a:endParaRPr>
          </a:p>
          <a:p>
            <a:pPr marL="1252440" indent="-121248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In the eyes of these Digital Natives, school is literally a “turn off” as we ask them to turn off their iPods, their smart phones, and all their other personal digital technology.</a:t>
            </a:r>
            <a:endParaRPr b="0" lang="en-US" sz="4600" spc="-1" strike="noStrike">
              <a:solidFill>
                <a:srgbClr val="2d4141"/>
              </a:solidFill>
              <a:latin typeface="Futura Condensed"/>
            </a:endParaRPr>
          </a:p>
          <a:p>
            <a:pPr marL="1252440" indent="-1212480">
              <a:lnSpc>
                <a:spcPct val="100000"/>
              </a:lnSpc>
              <a:spcBef>
                <a:spcPts val="2801"/>
              </a:spcBef>
              <a:buSzPct val="1594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raditional teaching methods do not engage our students or prepare them for a future where change is the only constant.</a:t>
            </a:r>
            <a:endParaRPr b="0" lang="en-US" sz="4600" spc="-1" strike="noStrike">
              <a:solidFill>
                <a:srgbClr val="2d4141"/>
              </a:solidFill>
              <a:latin typeface="Futura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Changing Course</a:t>
            </a:r>
            <a:endParaRPr b="0" lang="en-US" sz="6200" spc="-1" strike="noStrike">
              <a:solidFill>
                <a:srgbClr val="ffffff"/>
              </a:solidFill>
              <a:latin typeface="Futura Condensed"/>
            </a:endParaRPr>
          </a:p>
        </p:txBody>
      </p:sp>
      <p:sp>
        <p:nvSpPr>
          <p:cNvPr id="464"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76000"/>
          </a:bodyPr>
          <a:p>
            <a:pPr marL="1204920" indent="-116640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If we are serious about improving student achievement, we must change course, and restructure to address the needs and learning styles of our Digital Native students.</a:t>
            </a:r>
            <a:endParaRPr b="0" lang="en-US" sz="4600" spc="-1" strike="noStrike">
              <a:solidFill>
                <a:srgbClr val="2d4141"/>
              </a:solidFill>
              <a:latin typeface="Futura Condensed"/>
            </a:endParaRPr>
          </a:p>
          <a:p>
            <a:pPr marL="1204920" indent="-116640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An analysis of our new vision of our students demonstrates that there are two key areas we must address:</a:t>
            </a:r>
            <a:endParaRPr b="0" lang="en-US" sz="4600" spc="-1" strike="noStrike">
              <a:solidFill>
                <a:srgbClr val="2d4141"/>
              </a:solidFill>
              <a:latin typeface="Futura Condensed"/>
            </a:endParaRPr>
          </a:p>
          <a:p>
            <a:pPr lvl="2" marL="2226960" indent="-721440">
              <a:lnSpc>
                <a:spcPct val="100000"/>
              </a:lnSpc>
              <a:spcBef>
                <a:spcPts val="2801"/>
              </a:spcBef>
              <a:buClr>
                <a:srgbClr val="000000"/>
              </a:buClr>
              <a:buSzPct val="125000"/>
              <a:buFont typeface="Futura Condensed"/>
              <a:buChar char="•"/>
              <a:tabLst>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Increasing access to Digital Native technology tools</a:t>
            </a:r>
            <a:endParaRPr b="0" lang="en-US" sz="4600" spc="-1" strike="noStrike">
              <a:solidFill>
                <a:srgbClr val="2d4141"/>
              </a:solidFill>
              <a:latin typeface="Futura Condensed"/>
            </a:endParaRPr>
          </a:p>
          <a:p>
            <a:pPr lvl="2" marL="2226960" indent="-721440">
              <a:lnSpc>
                <a:spcPct val="100000"/>
              </a:lnSpc>
              <a:spcBef>
                <a:spcPts val="2801"/>
              </a:spcBef>
              <a:buClr>
                <a:srgbClr val="000000"/>
              </a:buClr>
              <a:buSzPct val="125000"/>
              <a:buFont typeface="Futura Condensed"/>
              <a:buChar char="•"/>
              <a:tabLst>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Developing a new model of learning</a:t>
            </a:r>
            <a:endParaRPr b="0" lang="en-US" sz="4600" spc="-1" strike="noStrike">
              <a:solidFill>
                <a:srgbClr val="2d4141"/>
              </a:solidFill>
              <a:latin typeface="Futura Condense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Digital Natives Inside; Tools Included</a:t>
            </a:r>
            <a:endParaRPr b="0" lang="en-US" sz="6200" spc="-1" strike="noStrike">
              <a:solidFill>
                <a:srgbClr val="ffffff"/>
              </a:solidFill>
              <a:latin typeface="Futura Condensed"/>
            </a:endParaRPr>
          </a:p>
        </p:txBody>
      </p:sp>
      <p:sp>
        <p:nvSpPr>
          <p:cNvPr id="466"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2000"/>
          </a:bodyPr>
          <a:p>
            <a:pPr marL="1300320" indent="-125856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e students inside of our classrooms today need unfettered access to their native technology tools. Happily, almost every student comes equipped with their own tools! </a:t>
            </a:r>
            <a:endParaRPr b="0" lang="en-US" sz="4600" spc="-1" strike="noStrike">
              <a:solidFill>
                <a:srgbClr val="2d4141"/>
              </a:solidFill>
              <a:latin typeface="Futura Condensed"/>
            </a:endParaRPr>
          </a:p>
          <a:p>
            <a:pPr marL="1300320" indent="-125856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We must change our policies and perceptions, and let our students use their own tools, freely intermixed with tools and access to content that we provide. We must let our Digital Natives use the “WWW“- Whatever, Whenever, Wherever, providing an added bonus for us of instant 1:1 computing.</a:t>
            </a:r>
            <a:endParaRPr b="0" lang="en-US" sz="4600" spc="-1" strike="noStrike">
              <a:solidFill>
                <a:srgbClr val="2d4141"/>
              </a:solidFill>
              <a:latin typeface="Futura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Futura Condensed"/>
              </a:rPr>
              <a:t>Developing a Learning Framework</a:t>
            </a:r>
            <a:endParaRPr b="0" lang="en-US" sz="6200" spc="-1" strike="noStrike">
              <a:solidFill>
                <a:srgbClr val="ffffff"/>
              </a:solidFill>
              <a:latin typeface="Futura Condensed"/>
            </a:endParaRPr>
          </a:p>
        </p:txBody>
      </p:sp>
      <p:sp>
        <p:nvSpPr>
          <p:cNvPr id="468"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2000"/>
          </a:bodyPr>
          <a:p>
            <a:pPr marL="1300320" indent="-125856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When we look at our schools in this new digital world, we can take nothing for granted. We must re-evaluate everything we have learned, and all our instructional practices, and then translate them into the Digital Native lexicon. </a:t>
            </a:r>
            <a:endParaRPr b="0" lang="en-US" sz="4600" spc="-1" strike="noStrike">
              <a:solidFill>
                <a:srgbClr val="2d4141"/>
              </a:solidFill>
              <a:latin typeface="Futura Condensed"/>
            </a:endParaRPr>
          </a:p>
          <a:p>
            <a:pPr marL="1300320" indent="-125856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In short, we must develop a new learning framework for our Digital Native students. Our new model overthrows honored traditions; even the old standby “3-Rs” must be transformed to become relevant and engaging for these students.</a:t>
            </a:r>
            <a:endParaRPr b="0" lang="en-US" sz="4600" spc="-1" strike="noStrike">
              <a:solidFill>
                <a:srgbClr val="2d4141"/>
              </a:solidFill>
              <a:latin typeface="Futura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